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BDC53-34AE-48FC-801C-EF2D217BE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0D44B-AFC0-46C9-8A22-944633773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B160A-42E4-4318-9BB0-03941A58E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039D9-6733-449C-91C6-56DA5DF46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EF935-950C-4A21-B27B-58C7DB67C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A59FA-63B3-4B52-8773-63004675B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06A0E-0B62-4BFF-B2E9-CA946B771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B4D98-6639-47FA-A074-BFD1FAA16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36FDF-CAE6-4B35-97B9-09AE388D2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B4AEB-2FC1-420E-A656-594F98EBE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68A84-47D2-4830-A0B0-7F61DE4F5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BD81A-0989-4F6C-BDE3-686C94CC3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12B8-7E16-4B98-9535-23DCE0964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256000"/>
          </a:xfrm>
          <a:prstGeom prst="rect">
            <a:avLst/>
          </a:prstGeom>
          <a:noFill/>
          <a:ln w="0">
            <a:noFill/>
          </a:ln>
        </p:spPr>
        <p:txBody>
          <a:bodyPr lIns="90000" rIns="90000" tIns="46800" bIns="46800" anchor="t">
            <a:normAutofit fontScale="99000"/>
          </a:bodyPr>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Владивостокский государственный университет экономики и сервиса</a:t>
            </a:r>
            <a:br>
              <a:rPr sz="2600"/>
            </a:br>
            <a:r>
              <a:rPr b="0" lang="ru-RU" sz="2600" spc="-1" strike="noStrike">
                <a:solidFill>
                  <a:srgbClr val="3333ff"/>
                </a:solidFill>
                <a:latin typeface="Tahoma"/>
              </a:rPr>
              <a:t>Институт информатики инноваций и бизнес систем</a:t>
            </a:r>
            <a:br>
              <a:rPr sz="2600"/>
            </a:br>
            <a:br>
              <a:rPr sz="2600"/>
            </a:br>
            <a:endParaRPr b="0" lang="en-US" sz="26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3333ff"/>
                </a:solidFill>
                <a:latin typeface="Arial"/>
              </a:rPr>
              <a:t> </a:t>
            </a:r>
            <a:r>
              <a:rPr b="1" lang="ru-RU" sz="2600" spc="-1" strike="noStrike">
                <a:solidFill>
                  <a:srgbClr val="3333ff"/>
                </a:solidFill>
                <a:latin typeface="Tahoma"/>
              </a:rPr>
              <a:t>Предмет: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ff"/>
                </a:solidFill>
                <a:latin typeface="Tahoma"/>
              </a:rPr>
              <a:t>«Технологии Интернет» </a:t>
            </a:r>
            <a:br>
              <a:rPr sz="2600"/>
            </a:b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Руководитель: Сачко Максим Анатольевич,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старший преподаватель</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D943-0151-4D23-9626-892CF723941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является наиболее популярным из сервисов Интернет - настолько, что часто Интернет и WWW используются как синонимы. На техноологиях WWW базируется электронная коммерция и другие Интернет-бизнесы. Эффективность организации веб-сервера на предприятии может иметь решающее значение для успеха деятельности предприятия.</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Cервис World Wid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E2C1-3713-4AD7-A365-25375AE1E02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 клиент-серверная технология, базирующаяся на прикладном протоколе HTTP, в котором имеются два типа сообщений: запросы от клиента (броузера) к серверу и ответы сервера клиенту. Запросы и ответы содержат заголовки со служебной информацией и данные (в запросе данными может быть содержимое заполненной пользователем формы).</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ая концепц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69E4-85CB-4203-AB1B-76AC032F74B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ротокол HTTP </a:t>
            </a:r>
            <a:r>
              <a:rPr b="0" i="1" lang="ru-RU" sz="2800" spc="-1" strike="noStrike">
                <a:solidFill>
                  <a:srgbClr val="3333ff"/>
                </a:solidFill>
                <a:latin typeface="Tahoma"/>
              </a:rPr>
              <a:t>(Hyper Text Transfer Protocol)</a:t>
            </a:r>
            <a:r>
              <a:rPr b="0" lang="ru-RU" sz="2800" spc="-1" strike="noStrike">
                <a:solidFill>
                  <a:srgbClr val="3333ff"/>
                </a:solidFill>
                <a:latin typeface="Tahoma"/>
              </a:rPr>
              <a:t> находится на прикладном уровне стека TCP/IP и состоит из запросов, посылаемых клиентом, и ответов, возвращаемых сервером. Запрос состоит из строки запроса, заголовков и данных (если они есть; например, если пользователь заполнил HTML-форму). В заголовках запроса могут быть указаны дополнительные параметры, уточняющие запрос или определяющие представление запрашиваемого документа.</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HT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A209-A405-4EFC-ADEF-9BFC1999896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TTP - прикладной клиент-серверный протокол типа "запрос-ответ" работающий поверх TCP (стандартный порт 80).</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Клиентом является броузер; сервером - WWW-сервер.</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 первой версии протокола (1.0) на одно TCP-соединение приходился один запрос и ответ, после чего соединение закрывалось. В настоящее время протокол позволяет выполнить несколько итераций в рамках одного соединения.</a:t>
            </a:r>
            <a:endParaRPr b="0" lang="en-US" sz="2800" spc="-1" strike="noStrike">
              <a:solidFill>
                <a:srgbClr val="000000"/>
              </a:solidFill>
              <a:latin typeface="Arial"/>
            </a:endParaRPr>
          </a:p>
        </p:txBody>
      </p:sp>
      <p:sp>
        <p:nvSpPr>
          <p:cNvPr id="8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Тем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AA97-2385-4E62-BC5B-1018E3B210D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запрос</a:t>
            </a:r>
            <a:endParaRPr b="0" lang="en-US" sz="3200" spc="-1" strike="noStrike">
              <a:solidFill>
                <a:srgbClr val="000000"/>
              </a:solidFill>
              <a:latin typeface="Arial"/>
            </a:endParaRPr>
          </a:p>
        </p:txBody>
      </p:sp>
      <p:graphicFrame>
        <p:nvGraphicFramePr>
          <p:cNvPr id="88" name=""/>
          <p:cNvGraphicFramePr/>
          <p:nvPr/>
        </p:nvGraphicFramePr>
        <p:xfrm>
          <a:off x="2411280" y="1268280"/>
          <a:ext cx="4248360" cy="2952720"/>
        </p:xfrm>
        <a:graphic>
          <a:graphicData uri="http://schemas.openxmlformats.org/drawingml/2006/table">
            <a:tbl>
              <a:tblPr/>
              <a:tblGrid>
                <a:gridCol w="4248360"/>
              </a:tblGrid>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рока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9" name=""/>
          <p:cNvSpPr/>
          <p:nvPr/>
        </p:nvSpPr>
        <p:spPr>
          <a:xfrm>
            <a:off x="225000" y="4437000"/>
            <a:ext cx="87670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присутствую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олько, если в запросе использован метод PO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или PU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7E05-E159-4BC9-B378-8B89BBB7984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GET /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POST /cgi-bin/sript?X=1&amp;Y=a%20b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EAD http://www.vvsu.ru/index.html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4"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6234-2889-44A5-B316-43206B7D340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GET</a:t>
            </a:r>
            <a:r>
              <a:rPr b="0" lang="ru-RU" sz="2800" spc="-1" strike="noStrike">
                <a:solidFill>
                  <a:srgbClr val="3333ff"/>
                </a:solidFill>
                <a:latin typeface="Tahoma"/>
              </a:rPr>
              <a:t> - запрос документа, идентифицируемого указанным URI.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HEAD</a:t>
            </a:r>
            <a:r>
              <a:rPr b="0" lang="ru-RU" sz="2800" spc="-1" strike="noStrike">
                <a:solidFill>
                  <a:srgbClr val="3333ff"/>
                </a:solidFill>
                <a:latin typeface="Tahoma"/>
              </a:rPr>
              <a:t> - запрос заголовков документа, идентифицируемого указанным URI (аналогично GET, но само содержимое документа не возвращаетс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POST</a:t>
            </a:r>
            <a:r>
              <a:rPr b="0" lang="ru-RU" sz="2800" spc="-1" strike="noStrike">
                <a:solidFill>
                  <a:srgbClr val="3333ff"/>
                </a:solidFill>
                <a:latin typeface="Tahoma"/>
              </a:rPr>
              <a:t> - пересылка данных на сервер (используется при заполнении форм). URI в этом случае обычно идентифицирует CGI-скрипт, который будет обрабатывать присланные данные, и результат этой обработки будет возвращен в HTTP-ответе. </a:t>
            </a:r>
            <a:endParaRPr b="0" lang="en-US" sz="2800" spc="-1" strike="noStrike">
              <a:solidFill>
                <a:srgbClr val="000000"/>
              </a:solidFill>
              <a:latin typeface="Arial"/>
            </a:endParaRPr>
          </a:p>
        </p:txBody>
      </p:sp>
      <p:sp>
        <p:nvSpPr>
          <p:cNvPr id="9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ые мето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65DE-1B54-4643-B4B0-58380094BC5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ответ</a:t>
            </a:r>
            <a:endParaRPr b="0" lang="en-US" sz="3200" spc="-1" strike="noStrike">
              <a:solidFill>
                <a:srgbClr val="000000"/>
              </a:solidFill>
              <a:latin typeface="Arial"/>
            </a:endParaRPr>
          </a:p>
        </p:txBody>
      </p:sp>
      <p:graphicFrame>
        <p:nvGraphicFramePr>
          <p:cNvPr id="101" name=""/>
          <p:cNvGraphicFramePr/>
          <p:nvPr/>
        </p:nvGraphicFramePr>
        <p:xfrm>
          <a:off x="2664000" y="1052640"/>
          <a:ext cx="3744360" cy="3347640"/>
        </p:xfrm>
        <a:graphic>
          <a:graphicData uri="http://schemas.openxmlformats.org/drawingml/2006/table">
            <a:tbl>
              <a:tblPr/>
              <a:tblGrid>
                <a:gridCol w="3744360"/>
              </a:tblGrid>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атусн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ответ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2" name=""/>
          <p:cNvSpPr/>
          <p:nvPr/>
        </p:nvSpPr>
        <p:spPr>
          <a:xfrm>
            <a:off x="826920" y="4574160"/>
            <a:ext cx="76327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могут отсутствовать - это зависит от типа запрос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4279-F344-4907-97E3-C59FC3D86A0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200 OK</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304 Not Modified</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3D79-9BE0-459C-8CC1-8E727C86B3B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1**</a:t>
            </a:r>
            <a:r>
              <a:rPr b="0" lang="en-US" sz="2800" spc="-1" strike="noStrike">
                <a:solidFill>
                  <a:srgbClr val="3333ff"/>
                </a:solidFill>
                <a:latin typeface="Tahoma"/>
              </a:rPr>
              <a:t> - Промежуточные информационные сообщения (практически не используются). </a:t>
            </a: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2**</a:t>
            </a:r>
            <a:r>
              <a:rPr b="0" lang="en-US" sz="2800" spc="-1" strike="noStrike">
                <a:solidFill>
                  <a:srgbClr val="3333ff"/>
                </a:solidFill>
                <a:latin typeface="Tahoma"/>
              </a:rPr>
              <a:t> - Успешная обработка запро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3**</a:t>
            </a:r>
            <a:r>
              <a:rPr b="0" lang="en-US" sz="2800" spc="-1" strike="noStrike">
                <a:solidFill>
                  <a:srgbClr val="3333ff"/>
                </a:solidFill>
                <a:latin typeface="Tahoma"/>
              </a:rPr>
              <a:t> - Для получения документа требуются дополнительные действия со стороны клиент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4**</a:t>
            </a:r>
            <a:r>
              <a:rPr b="0" lang="en-US" sz="2800" spc="-1" strike="noStrike">
                <a:solidFill>
                  <a:srgbClr val="3333ff"/>
                </a:solidFill>
                <a:latin typeface="Tahoma"/>
              </a:rPr>
              <a:t> - Ошибка клиент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5**</a:t>
            </a:r>
            <a:r>
              <a:rPr b="0" lang="en-US" sz="2800" spc="-1" strike="noStrike">
                <a:solidFill>
                  <a:srgbClr val="3333ff"/>
                </a:solidFill>
                <a:latin typeface="Tahoma"/>
              </a:rPr>
              <a:t> - Ошибка сервера.</a:t>
            </a:r>
            <a:endParaRPr b="0" lang="en-US" sz="2800" spc="-1" strike="noStrike">
              <a:solidFill>
                <a:srgbClr val="000000"/>
              </a:solidFill>
              <a:latin typeface="Arial"/>
            </a:endParaRPr>
          </a:p>
        </p:txBody>
      </p:sp>
      <p:sp>
        <p:nvSpPr>
          <p:cNvPr id="10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од отве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5</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Информационные сервис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1" name=""/>
          <p:cNvSpPr/>
          <p:nvPr/>
        </p:nvSpPr>
        <p:spPr>
          <a:xfrm>
            <a:off x="-19656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7380-4C2B-4211-AB21-F1C3409615B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еб-сервер </a:t>
            </a:r>
            <a:r>
              <a:rPr b="1" lang="ru-RU" sz="2800" spc="-1" strike="noStrike">
                <a:solidFill>
                  <a:srgbClr val="3333ff"/>
                </a:solidFill>
                <a:latin typeface="Tahoma"/>
              </a:rPr>
              <a:t>Apache</a:t>
            </a:r>
            <a:r>
              <a:rPr b="0" lang="ru-RU" sz="2800" spc="-1" strike="noStrike">
                <a:solidFill>
                  <a:srgbClr val="3333ff"/>
                </a:solidFill>
                <a:latin typeface="Tahoma"/>
              </a:rPr>
              <a:t> имеет открытую модульную архитектуру и открытый API, что позволяет создавать различные модули, расширяющие функциональность сервер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дминистрирование сервера производится путем редактирования текстового файла с директивами</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8678-E11F-49FD-B6BB-F3EB079937F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1. Запуск сервера - этот процесс запускается с большими привилегиями (например, root - для доступа к стандартному HTTP-порту 80). Непосредственно запросы клиентов этим процессом не обслуживаются; он управляет работой сервера. Запустившись, сервер производит разбор директив в конфигурационном файле (файлах), открывает лог-файлы, перенаправляет вывод стандартной ошибки в файл, указанный директивой ErrorLog. Этими же лог-файлами будут пользоваться все порожденные процессы.</a:t>
            </a:r>
            <a:endParaRPr b="0" lang="en-US" sz="2800" spc="-1" strike="noStrike">
              <a:solidFill>
                <a:srgbClr val="000000"/>
              </a:solidFill>
              <a:latin typeface="Arial"/>
            </a:endParaRPr>
          </a:p>
        </p:txBody>
      </p:sp>
      <p:sp>
        <p:nvSpPr>
          <p:cNvPr id="11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8"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4AF9-EAC6-4A24-897B-E67E55AF08E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2. Инициализация модулей.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3. Запуск дочерних процессов - главный процесс ветвится с помощью вызова fork, порождая несколько дочерних процессов, которые собственно и будут обслуживать запросы клиентов. В целях безопасности порожденные процессы запускаются с низким уровнем привилегий (по умолчанию - как пользователь nobody). Число порождаемых процессов определяется директивой StartServers.</a:t>
            </a:r>
            <a:endParaRPr b="0" lang="en-US" sz="2800" spc="-1" strike="noStrike">
              <a:solidFill>
                <a:srgbClr val="000000"/>
              </a:solidFill>
              <a:latin typeface="Arial"/>
            </a:endParaRPr>
          </a:p>
        </p:txBody>
      </p:sp>
      <p:sp>
        <p:nvSpPr>
          <p:cNvPr id="12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9E0A-9B8A-4A48-B7B4-E12861B8D06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4. Запрос, поступающий от клиента, отправляется на обработку одному из дочерних процессов. Цикл обработки запроса является основным смыслом деятельности сервера, он разобран отдельно в следующем пункте. После завершения обработки запроса процесс ожидает поступления следующего запроса. При достижении максимального числа обработанных запросов (директива MaxRequestsPerChild) дочерний процесс прекращает свою работу.</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7FB4-816F-47ED-8435-7856EF362FA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5. Главный процесс осуществляет мониторинг дочерних процессов. Если число процессов падает ниже установленного директивой MinSpareServers, то запускаются дополнительные дочерние процессы. При одновременном поступлении большого числа запросов главный процесс также запускает дополнительные процессы, но после прохождения пика лишние процессы будут удалены так, чтобы общее число ожидающих запроса процессов не превышало установленного директивой MaxSpareServers.</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   </a:t>
            </a:r>
            <a:r>
              <a:rPr b="0" lang="ru-RU" sz="2400" spc="-1" strike="noStrike">
                <a:solidFill>
                  <a:srgbClr val="3333ff"/>
                </a:solidFill>
                <a:latin typeface="Tahoma"/>
              </a:rPr>
              <a:t>Максимальное количество порожденных процессов определяется директивой MaxClients, что и является ограничением на число одновременно обслуживаемых сервером запросов.</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BCA5-1C10-42CD-92EF-A1473D40741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3333ff"/>
                </a:solidFill>
                <a:latin typeface="Tahoma"/>
              </a:rPr>
              <a:t>6. При получении команды "stop" (сигнал TERM) главный процесс останавливает дочерние процессы, а потом выходит сам. При получении команды "restart" (сигнал HUP) главный процесс останавливает дочерние процессы, но сам не выходит; заново производится разбор конфигурационных директив и инициализация модулей, потом запускаются дочерние процессы. При получении команды "graceful" (сигнал USR1) действия сервера аналогичны команде "restart", однако дочерние процессы не прерываются принудительно, а им дается возможность обслужить текущий запрос (если таковой имеется) и только после этого выйти.</a:t>
            </a:r>
            <a:endParaRPr b="0" lang="en-US" sz="2500" spc="-1" strike="noStrike">
              <a:solidFill>
                <a:srgbClr val="000000"/>
              </a:solidFill>
              <a:latin typeface="Arial"/>
            </a:endParaRPr>
          </a:p>
        </p:txBody>
      </p:sp>
      <p:sp>
        <p:nvSpPr>
          <p:cNvPr id="13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1341000"/>
            <a:ext cx="8470800" cy="475308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способы контроля и ограничения имеются в анонимном F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аутентификации клиента в протоколе HT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определения кодировки посылаемого клиенту документа, которым пользуется Russian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Укажите приоритет контекстов конфигурации в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коды HTTP-ответа вы знаете?</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Вопросы для самопроверк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66ff"/>
                </a:solidFill>
                <a:latin typeface="Tahoma"/>
              </a:rPr>
              <a:t>Рекомендуемая литература:</a:t>
            </a:r>
            <a:endParaRPr b="0" lang="en-US" sz="4200" spc="-1" strike="noStrike">
              <a:solidFill>
                <a:srgbClr val="000000"/>
              </a:solidFill>
              <a:latin typeface="Arial"/>
            </a:endParaRPr>
          </a:p>
        </p:txBody>
      </p:sp>
      <p:sp>
        <p:nvSpPr>
          <p:cNvPr id="138"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 Хант. Персональные компьютеры в сетях TCP/IP: Руководство администратора сети/ Пер. с англ. – СПб.: ЗАО "ЭлектроникаБизнесИнформатика", Киев: "BHV", </a:t>
            </a:r>
            <a:r>
              <a:rPr b="0" lang="en-US" sz="2800" spc="-1" strike="noStrike">
                <a:solidFill>
                  <a:srgbClr val="3366ff"/>
                </a:solidFill>
                <a:latin typeface="Tahoma"/>
              </a:rPr>
              <a:t>2003</a:t>
            </a:r>
            <a:r>
              <a:rPr b="0" lang="ru-RU" sz="2800" spc="-1" strike="noStrike">
                <a:solidFill>
                  <a:srgbClr val="3366ff"/>
                </a:solidFill>
                <a:latin typeface="Tahoma"/>
              </a:rPr>
              <a:t>.</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UNIX для системных администраторов: Энциклопедия пользователя/ Пер.с англ. – Киев: ДиаСофт,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Протокол FTP и его команд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Схемы работ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Создание и администрирование анонимного FTP-сервер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Протокол HTT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FC18-4908-4448-BD11-4553A7D3D3E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Цель:</a:t>
            </a:r>
            <a:r>
              <a:rPr b="0" lang="ru-RU" sz="2800" spc="-1" strike="noStrike">
                <a:solidFill>
                  <a:srgbClr val="3333ff"/>
                </a:solidFill>
                <a:latin typeface="Tahoma"/>
              </a:rPr>
              <a:t> изучить работу протокола FTP; научиться конфигурировать и администрировать анонимный FTP-сервер под ОС Unix.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Необходимость:</a:t>
            </a:r>
            <a:r>
              <a:rPr b="0" lang="ru-RU" sz="2800" spc="-1" strike="noStrike">
                <a:solidFill>
                  <a:srgbClr val="3333ff"/>
                </a:solidFill>
                <a:latin typeface="Tahoma"/>
              </a:rPr>
              <a:t> FTP является сервисом доступа к файловым архивам: программному обеспечению, документации, и т.д. Необходимость предоставлять к таким данным публичный или корпоративный доступ часто появляется в работе организации.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1986-A3E4-4BF6-A71D-3950BB1F582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Основная концепция:</a:t>
            </a:r>
            <a:r>
              <a:rPr b="0" lang="ru-RU" sz="2800" spc="-1" strike="noStrike">
                <a:solidFill>
                  <a:srgbClr val="3333ff"/>
                </a:solidFill>
                <a:latin typeface="Tahoma"/>
              </a:rPr>
              <a:t> Сервис FTP обеспечивает авторизованный и анонимный доступ к удаленным файловым архивам через Интернет с помощью протокола FTP, находящегося на прикладном уровне стека TCP/IP.</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Серверная часть обслуживается стандартным демоном </a:t>
            </a:r>
            <a:r>
              <a:rPr b="1" lang="ru-RU" sz="2800" spc="-1" strike="noStrike">
                <a:solidFill>
                  <a:srgbClr val="3333ff"/>
                </a:solidFill>
                <a:latin typeface="Tahoma"/>
              </a:rPr>
              <a:t>in.ftpd</a:t>
            </a:r>
            <a:r>
              <a:rPr b="0" lang="ru-RU" sz="2800" spc="-1" strike="noStrike">
                <a:solidFill>
                  <a:srgbClr val="3333ff"/>
                </a:solidFill>
                <a:latin typeface="Tahoma"/>
              </a:rPr>
              <a:t> (</a:t>
            </a:r>
            <a:r>
              <a:rPr b="0" i="1" lang="ru-RU" sz="2800" spc="-1" strike="noStrike">
                <a:solidFill>
                  <a:srgbClr val="3333ff"/>
                </a:solidFill>
                <a:latin typeface="Tahoma"/>
              </a:rPr>
              <a:t>Unix</a:t>
            </a:r>
            <a:r>
              <a:rPr b="0" lang="ru-RU" sz="2800" spc="-1" strike="noStrike">
                <a:solidFill>
                  <a:srgbClr val="3333ff"/>
                </a:solidFill>
                <a:latin typeface="Tahoma"/>
              </a:rPr>
              <a:t>) или специальными программами с расширенной функциональностью. </a:t>
            </a:r>
            <a:endParaRPr b="0" lang="en-US" sz="2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0DA6-FC5B-4B24-A7CE-A3A26E0C8F5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FTP </a:t>
            </a:r>
            <a:r>
              <a:rPr b="0" i="1" lang="ru-RU" sz="2800" spc="-1" strike="noStrike">
                <a:solidFill>
                  <a:srgbClr val="3333ff"/>
                </a:solidFill>
                <a:latin typeface="Tahoma"/>
              </a:rPr>
              <a:t>(File Transfer Protocol или "Протокол Передачи Файлов")</a:t>
            </a:r>
            <a:r>
              <a:rPr b="1" lang="ru-RU" sz="2800" spc="-1" strike="noStrike">
                <a:solidFill>
                  <a:srgbClr val="3333ff"/>
                </a:solidFill>
                <a:latin typeface="Tahoma"/>
              </a:rPr>
              <a:t> </a:t>
            </a:r>
            <a:r>
              <a:rPr b="0" lang="ru-RU" sz="2800" spc="-1" strike="noStrike">
                <a:solidFill>
                  <a:srgbClr val="3333ff"/>
                </a:solidFill>
                <a:latin typeface="Tahoma"/>
              </a:rPr>
              <a:t> - клиент-серверный протокол прикладного уровня, обеспечивающий навигацию клиента по файловой системе сервера, управление файлами и пересылку файлов между клиентом и сервером.</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и работе с FTP между клиентом и сервером функционируют два соединения: одно для передачи текстовых управляющих команд клиента и откликов сервера, другое - для передачи собственно файлов.</a:t>
            </a:r>
            <a:endParaRPr b="0" lang="en-US" sz="2800" spc="-1" strike="noStrike">
              <a:solidFill>
                <a:srgbClr val="000000"/>
              </a:solidFill>
              <a:latin typeface="Arial"/>
            </a:endParaRPr>
          </a:p>
        </p:txBody>
      </p:sp>
      <p:sp>
        <p:nvSpPr>
          <p:cNvPr id="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F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D57A-63E0-4D2A-B307-2833B4AB7FF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Управляющий канал ftp</a:t>
            </a:r>
            <a:r>
              <a:rPr b="0" lang="ru-RU" sz="2800" spc="-1" strike="noStrike">
                <a:solidFill>
                  <a:srgbClr val="3333ff"/>
                </a:solidFill>
                <a:latin typeface="Tahoma"/>
              </a:rPr>
              <a:t> - соединение со стандартным портом TCP/21, по которому (в текстовом виде) передаются команды протокола FTP и отклики на них. Управляющий канал открывается при подсоединении клиента к серверу FTP.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Канал данных ftp</a:t>
            </a:r>
            <a:r>
              <a:rPr b="0" lang="ru-RU" sz="2800" spc="-1" strike="noStrike">
                <a:solidFill>
                  <a:srgbClr val="3333ff"/>
                </a:solidFill>
                <a:latin typeface="Tahoma"/>
              </a:rPr>
              <a:t> - соединение со стандартным портом TCP/20, по которому передаются данные - содержимое файлов. Канал данных открывается автоматически при поступлении соответствующей команды (get, put, dir и др.) по каналу управлени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лючевые поня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B816-AC04-47CD-A942-6FAEF6DF649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Модель протокола FTP</a:t>
            </a:r>
            <a:endParaRPr b="0" lang="en-US" sz="3200" spc="-1" strike="noStrike">
              <a:solidFill>
                <a:srgbClr val="000000"/>
              </a:solidFill>
              <a:latin typeface="Arial"/>
            </a:endParaRPr>
          </a:p>
        </p:txBody>
      </p:sp>
      <p:pic>
        <p:nvPicPr>
          <p:cNvPr id="64" name="" descr=""/>
          <p:cNvPicPr/>
          <p:nvPr/>
        </p:nvPicPr>
        <p:blipFill>
          <a:blip r:embed="rId1"/>
          <a:stretch/>
        </p:blipFill>
        <p:spPr>
          <a:xfrm>
            <a:off x="647640" y="914400"/>
            <a:ext cx="7885080" cy="529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F5C2-F8E5-4AAA-B5E4-6032BFA9952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0" y="-1220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Соединение с двумя разными серверами и передача данных между ними </a:t>
            </a:r>
            <a:endParaRPr b="0" lang="en-US" sz="2400" spc="-1" strike="noStrike">
              <a:solidFill>
                <a:srgbClr val="000000"/>
              </a:solidFill>
              <a:latin typeface="Arial"/>
            </a:endParaRPr>
          </a:p>
        </p:txBody>
      </p:sp>
      <p:pic>
        <p:nvPicPr>
          <p:cNvPr id="68" name="" descr=""/>
          <p:cNvPicPr/>
          <p:nvPr/>
        </p:nvPicPr>
        <p:blipFill>
          <a:blip r:embed="rId1"/>
          <a:stretch/>
        </p:blipFill>
        <p:spPr>
          <a:xfrm>
            <a:off x="1665360" y="874800"/>
            <a:ext cx="5751360" cy="54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4:00:41Z</dcterms:modified>
  <cp:revision>189</cp:revision>
  <dc:subject/>
  <dc:title>Lecture Template </dc:title>
</cp:coreProperties>
</file>